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6FB-29E9-4259-80C2-DA4B89F5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15E-2523-4070-9889-FA85AEF6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957-CE10-43A2-9C6B-973A43F1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7526-793D-43A6-8672-6C515D1D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BD2E-CC2D-4582-B48A-656367CA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FA6C-DCF8-4B49-8F6F-5BB4C553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BF1-D3FE-4B23-9D16-BBCE3C8A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7B0-838C-4A2A-AAD6-2F50C61C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311-1BB6-4EE8-821B-EAA443F0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C7F-05D5-42B8-AE91-1A512513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B384-89B7-4070-BF81-AEFFE81A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CEB-352F-49D8-B09F-0A51F10E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8CD6-B5D8-4064-81BC-CB6A12560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pplicazione delle logiche della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trasparenza per la gestione degli eventi sponsorizzati: 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l sistema SIGEIS</a:t>
            </a:r>
            <a:br>
              <a:rPr sz="3600"/>
            </a:br>
            <a:br>
              <a:rPr sz="36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rancesco Niccolai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rettore UOC Formazione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111320" cy="622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11600" y="57340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4.12.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e la trasparenza permettersi di migliorare il nostro modo di lavorare 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6683400" cy="4098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18280" y="6237360"/>
            <a:ext cx="33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linguer ti voglio bene, di G.Bertolucci (197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997760" y="69840"/>
            <a:ext cx="1111320" cy="622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0" y="6673680"/>
            <a:ext cx="1197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F.Niccolai, ATNO, 04.12.202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0720" y="4146480"/>
            <a:ext cx="4319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060640"/>
            <a:ext cx="431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ciabi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0" y="4148280"/>
            <a:ext cx="431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 re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2060640"/>
            <a:ext cx="431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i Volu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e inter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8200" y="4003560"/>
            <a:ext cx="367344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917720"/>
            <a:ext cx="367344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3800" y="1916280"/>
            <a:ext cx="367380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3800" y="4003560"/>
            <a:ext cx="367380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60280"/>
            <a:ext cx="80643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e la trasparenza …. 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, qu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9040" y="342756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n si può gestire uno alla vo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15440" y="3427560"/>
            <a:ext cx="37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i deve rendere conto dei passag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51760" y="551664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n si può aspettare tro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1400" y="551664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l controllo solo centrale non è ef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1498320" cy="919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885080" y="189000"/>
            <a:ext cx="1111320" cy="622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" y="6673680"/>
            <a:ext cx="1197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F.Niccolai, ATNO, 04.12.202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758080" cy="5081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7640" y="260280"/>
            <a:ext cx="77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https://formazione.uslnordovest.toscana.it/sig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0" y="6673680"/>
            <a:ext cx="1197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F.Niccolai, ATNO, 04.12.202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03T12:01:08Z</dcterms:created>
  <dc:creator>francesco.niccolai</dc:creator>
  <dc:description/>
  <dc:language>en-US</dc:language>
  <cp:lastModifiedBy>francesco.niccolai</cp:lastModifiedBy>
  <dcterms:modified xsi:type="dcterms:W3CDTF">2024-12-03T15:34:49Z</dcterms:modified>
  <cp:revision>2</cp:revision>
  <dc:subject/>
  <dc:title>Applicazione delle logiche della trasparenza per la gestione degli eventi sponsorizzati:   il sistema SIGEIS  Francesco Niccolai Direttore UOC Formazione </dc:title>
</cp:coreProperties>
</file>